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22280" y="767880"/>
            <a:ext cx="26542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D196-4FD3-4741-A985-8711EC50C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EEFA-3398-4AA3-A032-3B5258B67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222640" y="768240"/>
            <a:ext cx="2654280" cy="3837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E4A-9BF4-4CD6-A5C5-DE146FC2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E9A-D1AC-401A-AA33-A017C53B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0FA-72DB-4B96-A8AA-BC23BA6A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F4E-9AC7-4B83-96E2-04582D1E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B93-369E-4D4E-8D6E-8514D1C6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149-4A07-4729-A557-8C00A27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774-775A-4150-B88D-B8C5DD40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082-A6E8-4E0D-8AE2-8B5FDB39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5EB-0F8D-4735-B980-EE49886A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1ED-81DE-4765-8DB8-C3F6D9BF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CD8-A7B4-4387-ACF2-D88D7694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68C-5EF5-4A18-83C8-9BEB5E17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7F04-D5EB-4E43-A4A8-EBE80CD4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a2009"/>
          <p:cNvPicPr/>
          <p:nvPr/>
        </p:nvPicPr>
        <p:blipFill>
          <a:blip r:embed="rId1"/>
          <a:stretch/>
        </p:blipFill>
        <p:spPr>
          <a:xfrm>
            <a:off x="76320" y="8305920"/>
            <a:ext cx="6456240" cy="134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Gmod_cog"/>
          <p:cNvPicPr/>
          <p:nvPr/>
        </p:nvPicPr>
        <p:blipFill>
          <a:blip r:embed="rId2"/>
          <a:stretch/>
        </p:blipFill>
        <p:spPr>
          <a:xfrm>
            <a:off x="228600" y="281160"/>
            <a:ext cx="3124080" cy="2298600"/>
          </a:xfrm>
          <a:prstGeom prst="rect">
            <a:avLst/>
          </a:prstGeom>
          <a:ln w="0">
            <a:noFill/>
          </a:ln>
        </p:spPr>
      </p:pic>
      <p:sp>
        <p:nvSpPr>
          <p:cNvPr id="50" name="Line 8"/>
          <p:cNvSpPr/>
          <p:nvPr/>
        </p:nvSpPr>
        <p:spPr>
          <a:xfrm>
            <a:off x="3429000" y="304920"/>
            <a:ext cx="0" cy="2286000"/>
          </a:xfrm>
          <a:prstGeom prst="line">
            <a:avLst/>
          </a:prstGeom>
          <a:ln w="38160">
            <a:solidFill>
              <a:srgbClr val="0942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510720" y="2286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Database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for Biolog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3500280" y="1379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Pre-conference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3513240" y="1689120"/>
            <a:ext cx="2963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28 October 2009, 2-6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www.ausbiotech2009.com.au/bia/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gmod.org/wiki/BA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571680" y="2809800"/>
            <a:ext cx="59814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Learn how GMOD tools can help you visualize, annotate, and manage your genomic data.  GMOD is a collection of interoperable, open source software components that can help you integrate and share biological data.  GMOD tools are used in a wide range of organizations, from major model organism databases (FlyBase, WormBase, TAIR, …) to single lab instal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half-day, pre-conference workshop will introduce the GMOD project and many GMOD tools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Visualization: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GBrowse, JBrowse, GBrowse_syn, CMap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Data Management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Chado, BioMart, InterMine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Annotation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MAKER, DIYA, Apollo, Textpress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GBrowse, a popular genome browser, will be demonstrated with a worked example.  At the end of this workshop participants will understand which GMOD tools may be useful to them, and have an understanding of the effort required to us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95440" y="7310520"/>
            <a:ext cx="1614240" cy="107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7284960"/>
            <a:ext cx="419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workshop is generously sponsored by Bioplatforms Australia, and admission to the workshop is included in the registration for Bioinformatics Australia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4:30:39Z</dcterms:created>
  <dc:creator>GMOD / NESCent</dc:creator>
  <dc:description/>
  <dc:language>en-US</dc:language>
  <cp:lastModifiedBy>GMOD / NESCent</cp:lastModifiedBy>
  <dcterms:modified xsi:type="dcterms:W3CDTF">2009-09-30T16:57:49Z</dcterms:modified>
  <cp:revision>17</cp:revision>
  <dc:subject/>
  <dc:title>PowerPoint Presentation</dc:title>
</cp:coreProperties>
</file>